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32E-3313-4ED4-B9D6-4568DD6C03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FC7-8BC0-4AFC-8867-6FC78A1245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303-2234-41B2-9E8B-B7884D4A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71F-5B49-460B-89A4-1C66661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59D-8DD9-4476-9C35-4B4E4613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681-6C10-4F6A-9CA4-B9FECDBD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A2A-3331-4B40-907A-3D0ADC4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2EB-C72A-4C3C-A675-D07CCF3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845-1714-4554-9827-DBBAFFC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913-676F-4E4B-B4AD-44E2D35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D34-135D-408E-930E-459D30A1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856-4F0E-4A30-93ED-33FBE1A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94D-9AF1-4627-AE31-EE12182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F76-708D-4DD5-8C2D-42A26CA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3DF0-545C-491E-97EA-4384F4101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751120" y="36860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 的 认 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数 与 代 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74760" y="328680"/>
          <a:ext cx="8138880" cy="6218280"/>
        </p:xfrm>
        <a:graphic>
          <a:graphicData uri="http://schemas.openxmlformats.org/drawingml/2006/table">
            <a:tbl>
              <a:tblPr/>
              <a:tblGrid>
                <a:gridCol w="2712960"/>
                <a:gridCol w="2712960"/>
                <a:gridCol w="2712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收支情况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余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3"/>
          <p:cNvSpPr/>
          <p:nvPr/>
        </p:nvSpPr>
        <p:spPr>
          <a:xfrm>
            <a:off x="477720" y="554040"/>
            <a:ext cx="66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民币上的号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1"/>
          <a:stretch/>
        </p:blipFill>
        <p:spPr>
          <a:xfrm>
            <a:off x="1195560" y="1303200"/>
            <a:ext cx="5559120" cy="28720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2"/>
          <a:stretch/>
        </p:blipFill>
        <p:spPr>
          <a:xfrm>
            <a:off x="4956120" y="5275440"/>
            <a:ext cx="941400" cy="13492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4" descr=""/>
          <p:cNvPicPr/>
          <p:nvPr/>
        </p:nvPicPr>
        <p:blipFill>
          <a:blip r:embed="rId3"/>
          <a:stretch/>
        </p:blipFill>
        <p:spPr>
          <a:xfrm>
            <a:off x="7934400" y="3530520"/>
            <a:ext cx="1063440" cy="1525680"/>
          </a:xfrm>
          <a:prstGeom prst="rect">
            <a:avLst/>
          </a:prstGeom>
          <a:ln w="0">
            <a:noFill/>
          </a:ln>
        </p:spPr>
      </p:pic>
      <p:sp>
        <p:nvSpPr>
          <p:cNvPr id="169" name="圆角矩形标注 5"/>
          <p:cNvSpPr/>
          <p:nvPr/>
        </p:nvSpPr>
        <p:spPr>
          <a:xfrm>
            <a:off x="3490920" y="4076640"/>
            <a:ext cx="3616200" cy="979560"/>
          </a:xfrm>
          <a:prstGeom prst="wedgeRoundRectCallout">
            <a:avLst>
              <a:gd name="adj1" fmla="val 65375"/>
              <a:gd name="adj2" fmla="val -1390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知道人民币上的号码有哪些作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"/>
          <p:cNvPicPr/>
          <p:nvPr/>
        </p:nvPicPr>
        <p:blipFill>
          <a:blip r:embed="rId4"/>
          <a:stretch/>
        </p:blipFill>
        <p:spPr>
          <a:xfrm>
            <a:off x="61920" y="5056200"/>
            <a:ext cx="1244520" cy="14684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1012680" y="4405320"/>
            <a:ext cx="2352960" cy="870120"/>
          </a:xfrm>
          <a:prstGeom prst="cloudCallout">
            <a:avLst>
              <a:gd name="adj1" fmla="val -41143"/>
              <a:gd name="adj2" fmla="val 67282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起计数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9"/>
          <p:cNvSpPr/>
          <p:nvPr/>
        </p:nvSpPr>
        <p:spPr>
          <a:xfrm>
            <a:off x="1598760" y="5275440"/>
            <a:ext cx="3127320" cy="969840"/>
          </a:xfrm>
          <a:prstGeom prst="cloudCallout">
            <a:avLst>
              <a:gd name="adj1" fmla="val 57861"/>
              <a:gd name="adj2" fmla="val 28712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区分发行时间的早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"/>
          <p:cNvSpPr/>
          <p:nvPr/>
        </p:nvSpPr>
        <p:spPr>
          <a:xfrm>
            <a:off x="550800" y="847800"/>
            <a:ext cx="744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珠穆朗玛峰的高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44.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用“四舍五入法”取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留到一位小数是（           ）米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留到整数是（          ）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留到整十数是（           ）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死海湖面低于地中海海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可以记作（            ）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"/>
          <p:cNvSpPr/>
          <p:nvPr/>
        </p:nvSpPr>
        <p:spPr>
          <a:xfrm>
            <a:off x="4843440" y="2517840"/>
            <a:ext cx="14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844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4275000" y="29941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8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4724280" y="344664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1327320" y="4280040"/>
            <a:ext cx="13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"/>
          <p:cNvSpPr/>
          <p:nvPr/>
        </p:nvSpPr>
        <p:spPr>
          <a:xfrm>
            <a:off x="38160" y="779400"/>
            <a:ext cx="9063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月亮表面的温度，白天高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7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记作（ 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夜晚却降至零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 ℃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记作（   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＝ （         ）分＝ （      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克＝ （        ）千克（       ）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（       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）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）     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0    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）（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6130800" y="156204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0"/>
          <p:cNvSpPr/>
          <p:nvPr/>
        </p:nvSpPr>
        <p:spPr>
          <a:xfrm>
            <a:off x="7765920" y="949320"/>
            <a:ext cx="13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2"/>
          <p:cNvSpPr/>
          <p:nvPr/>
        </p:nvSpPr>
        <p:spPr>
          <a:xfrm>
            <a:off x="3129120" y="218916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"/>
          <p:cNvSpPr/>
          <p:nvPr/>
        </p:nvSpPr>
        <p:spPr>
          <a:xfrm>
            <a:off x="5403960" y="218916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4"/>
          <p:cNvSpPr/>
          <p:nvPr/>
        </p:nvSpPr>
        <p:spPr>
          <a:xfrm>
            <a:off x="3060720" y="284472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5"/>
          <p:cNvSpPr/>
          <p:nvPr/>
        </p:nvSpPr>
        <p:spPr>
          <a:xfrm>
            <a:off x="5162400" y="28447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6"/>
          <p:cNvSpPr/>
          <p:nvPr/>
        </p:nvSpPr>
        <p:spPr>
          <a:xfrm>
            <a:off x="2830680" y="348768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7"/>
          <p:cNvSpPr/>
          <p:nvPr/>
        </p:nvSpPr>
        <p:spPr>
          <a:xfrm>
            <a:off x="1271520" y="4827600"/>
            <a:ext cx="15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8"/>
          <p:cNvSpPr/>
          <p:nvPr/>
        </p:nvSpPr>
        <p:spPr>
          <a:xfrm>
            <a:off x="3060720" y="47480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9"/>
          <p:cNvSpPr/>
          <p:nvPr/>
        </p:nvSpPr>
        <p:spPr>
          <a:xfrm>
            <a:off x="7594560" y="4748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"/>
          <p:cNvSpPr/>
          <p:nvPr/>
        </p:nvSpPr>
        <p:spPr>
          <a:xfrm>
            <a:off x="6507000" y="47480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1" descr=""/>
          <p:cNvPicPr/>
          <p:nvPr/>
        </p:nvPicPr>
        <p:blipFill>
          <a:blip r:embed="rId1"/>
          <a:stretch/>
        </p:blipFill>
        <p:spPr>
          <a:xfrm>
            <a:off x="423720" y="4354560"/>
            <a:ext cx="787896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"/>
          <p:cNvSpPr/>
          <p:nvPr/>
        </p:nvSpPr>
        <p:spPr>
          <a:xfrm>
            <a:off x="722160" y="1149480"/>
            <a:ext cx="829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圈里填上＞、＜或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6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6        0.91                        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％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对象 2"/>
          <p:cNvGraphicFramePr/>
          <p:nvPr/>
        </p:nvGraphicFramePr>
        <p:xfrm>
          <a:off x="1008000" y="1819440"/>
          <a:ext cx="35100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819440"/>
                    <a:ext cx="3510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对象 7"/>
          <p:cNvGraphicFramePr/>
          <p:nvPr/>
        </p:nvGraphicFramePr>
        <p:xfrm>
          <a:off x="3451320" y="1924200"/>
          <a:ext cx="52380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对象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1320" y="1924200"/>
                    <a:ext cx="5238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对象 8"/>
          <p:cNvGraphicFramePr/>
          <p:nvPr/>
        </p:nvGraphicFramePr>
        <p:xfrm>
          <a:off x="6122880" y="1819440"/>
          <a:ext cx="35100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对象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2880" y="1819440"/>
                    <a:ext cx="3510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对象 9"/>
          <p:cNvGraphicFramePr/>
          <p:nvPr/>
        </p:nvGraphicFramePr>
        <p:xfrm>
          <a:off x="985680" y="3213000"/>
          <a:ext cx="322560" cy="90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对象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85680" y="3213000"/>
                    <a:ext cx="3225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对象 10"/>
          <p:cNvGraphicFramePr/>
          <p:nvPr/>
        </p:nvGraphicFramePr>
        <p:xfrm>
          <a:off x="4568760" y="3203640"/>
          <a:ext cx="495360" cy="90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对象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68760" y="3203640"/>
                    <a:ext cx="4953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对象 11"/>
          <p:cNvGraphicFramePr/>
          <p:nvPr/>
        </p:nvGraphicFramePr>
        <p:xfrm>
          <a:off x="7554960" y="2992320"/>
          <a:ext cx="52704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对象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4960" y="2992320"/>
                    <a:ext cx="527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椭圆 12"/>
          <p:cNvSpPr/>
          <p:nvPr/>
        </p:nvSpPr>
        <p:spPr>
          <a:xfrm>
            <a:off x="1322280" y="2043000"/>
            <a:ext cx="493920" cy="42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3"/>
          <p:cNvSpPr/>
          <p:nvPr/>
        </p:nvSpPr>
        <p:spPr>
          <a:xfrm>
            <a:off x="1322280" y="3406680"/>
            <a:ext cx="493920" cy="42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4"/>
          <p:cNvSpPr/>
          <p:nvPr/>
        </p:nvSpPr>
        <p:spPr>
          <a:xfrm>
            <a:off x="3975120" y="2165400"/>
            <a:ext cx="492120" cy="42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5"/>
          <p:cNvSpPr/>
          <p:nvPr/>
        </p:nvSpPr>
        <p:spPr>
          <a:xfrm>
            <a:off x="4148280" y="3406680"/>
            <a:ext cx="493560" cy="42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6"/>
          <p:cNvSpPr/>
          <p:nvPr/>
        </p:nvSpPr>
        <p:spPr>
          <a:xfrm>
            <a:off x="6473880" y="2095560"/>
            <a:ext cx="493560" cy="420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7"/>
          <p:cNvSpPr/>
          <p:nvPr/>
        </p:nvSpPr>
        <p:spPr>
          <a:xfrm>
            <a:off x="7045200" y="3398760"/>
            <a:ext cx="493920" cy="42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1"/>
          <p:cNvSpPr/>
          <p:nvPr/>
        </p:nvSpPr>
        <p:spPr>
          <a:xfrm>
            <a:off x="1365120" y="2023920"/>
            <a:ext cx="6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2"/>
          <p:cNvSpPr/>
          <p:nvPr/>
        </p:nvSpPr>
        <p:spPr>
          <a:xfrm>
            <a:off x="3975120" y="21495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3"/>
          <p:cNvSpPr/>
          <p:nvPr/>
        </p:nvSpPr>
        <p:spPr>
          <a:xfrm>
            <a:off x="6442200" y="2049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4"/>
          <p:cNvSpPr/>
          <p:nvPr/>
        </p:nvSpPr>
        <p:spPr>
          <a:xfrm>
            <a:off x="1322280" y="3378240"/>
            <a:ext cx="6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5"/>
          <p:cNvSpPr/>
          <p:nvPr/>
        </p:nvSpPr>
        <p:spPr>
          <a:xfrm>
            <a:off x="4148280" y="3348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6"/>
          <p:cNvSpPr/>
          <p:nvPr/>
        </p:nvSpPr>
        <p:spPr>
          <a:xfrm>
            <a:off x="7045200" y="3373560"/>
            <a:ext cx="6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4467240" y="21178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"/>
          <p:cNvSpPr/>
          <p:nvPr/>
        </p:nvSpPr>
        <p:spPr>
          <a:xfrm>
            <a:off x="6967440" y="2043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1"/>
          <p:cNvSpPr/>
          <p:nvPr/>
        </p:nvSpPr>
        <p:spPr>
          <a:xfrm>
            <a:off x="519120" y="855720"/>
            <a:ext cx="7997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张卡片中，选取两张卡片，组成的数是质数的是（                   ），组成的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的是（                   ），组成的数既有因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又有因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同时还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倍数的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内既是偶数又是质数的有（   ），既是奇数又是合数的有（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个非零自然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最大公因数是（  ），最小公倍数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"/>
          <p:cNvSpPr/>
          <p:nvPr/>
        </p:nvSpPr>
        <p:spPr>
          <a:xfrm>
            <a:off x="5799240" y="181620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"/>
          <p:cNvSpPr/>
          <p:nvPr/>
        </p:nvSpPr>
        <p:spPr>
          <a:xfrm>
            <a:off x="5205240" y="23432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5"/>
          <p:cNvSpPr/>
          <p:nvPr/>
        </p:nvSpPr>
        <p:spPr>
          <a:xfrm>
            <a:off x="3249720" y="325764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6"/>
          <p:cNvSpPr/>
          <p:nvPr/>
        </p:nvSpPr>
        <p:spPr>
          <a:xfrm>
            <a:off x="4068720" y="522144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8"/>
          <p:cNvSpPr/>
          <p:nvPr/>
        </p:nvSpPr>
        <p:spPr>
          <a:xfrm>
            <a:off x="971640" y="561024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9"/>
          <p:cNvSpPr/>
          <p:nvPr/>
        </p:nvSpPr>
        <p:spPr>
          <a:xfrm>
            <a:off x="7248600" y="375768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0"/>
          <p:cNvSpPr/>
          <p:nvPr/>
        </p:nvSpPr>
        <p:spPr>
          <a:xfrm>
            <a:off x="5011560" y="430848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1380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知识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7399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数包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自然数和负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整数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负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小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最小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自然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"/>
          <p:cNvSpPr/>
          <p:nvPr/>
        </p:nvSpPr>
        <p:spPr>
          <a:xfrm>
            <a:off x="452520" y="457200"/>
            <a:ext cx="78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下面的数按要求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标注 19"/>
          <p:cNvSpPr/>
          <p:nvPr/>
        </p:nvSpPr>
        <p:spPr>
          <a:xfrm flipH="1">
            <a:off x="2138400" y="1117440"/>
            <a:ext cx="5410080" cy="588960"/>
          </a:xfrm>
          <a:prstGeom prst="wedgeRoundRectCallout">
            <a:avLst>
              <a:gd name="adj1" fmla="val -56912"/>
              <a:gd name="adj2" fmla="val 36393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举例说明这些数可以表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7986600" y="784080"/>
            <a:ext cx="85104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3"/>
          <p:cNvSpPr/>
          <p:nvPr/>
        </p:nvSpPr>
        <p:spPr>
          <a:xfrm>
            <a:off x="-108000" y="4106880"/>
            <a:ext cx="915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  ）是自然数，（                                ）是小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         ）是分数，（                                ）是整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                                     ）是正数，（          ）是负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 rot="1441800">
            <a:off x="1855080" y="2077920"/>
            <a:ext cx="634680" cy="520560"/>
          </a:xfrm>
          <a:prstGeom prst="rect">
            <a:avLst/>
          </a:prstGeom>
          <a:solidFill>
            <a:srgbClr val="f7c9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 rot="1288800">
            <a:off x="3713760" y="2155320"/>
            <a:ext cx="803880" cy="520560"/>
          </a:xfrm>
          <a:prstGeom prst="rect">
            <a:avLst/>
          </a:prstGeom>
          <a:solidFill>
            <a:srgbClr val="f7c9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 rot="19038600">
            <a:off x="5033880" y="2078280"/>
            <a:ext cx="625680" cy="52056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"/>
          <p:cNvSpPr/>
          <p:nvPr/>
        </p:nvSpPr>
        <p:spPr>
          <a:xfrm rot="1119000">
            <a:off x="6148440" y="2079720"/>
            <a:ext cx="634680" cy="520560"/>
          </a:xfrm>
          <a:prstGeom prst="rect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0"/>
          <p:cNvSpPr/>
          <p:nvPr/>
        </p:nvSpPr>
        <p:spPr>
          <a:xfrm rot="20776800">
            <a:off x="7085880" y="2141640"/>
            <a:ext cx="898560" cy="520560"/>
          </a:xfrm>
          <a:prstGeom prst="rect">
            <a:avLst/>
          </a:prstGeom>
          <a:solidFill>
            <a:srgbClr val="e2a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"/>
          <p:cNvSpPr/>
          <p:nvPr/>
        </p:nvSpPr>
        <p:spPr>
          <a:xfrm rot="1437600">
            <a:off x="1160640" y="3110040"/>
            <a:ext cx="536040" cy="52056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2"/>
          <p:cNvSpPr/>
          <p:nvPr/>
        </p:nvSpPr>
        <p:spPr>
          <a:xfrm rot="20164200">
            <a:off x="2115360" y="3141360"/>
            <a:ext cx="536040" cy="520560"/>
          </a:xfrm>
          <a:prstGeom prst="rect">
            <a:avLst/>
          </a:prstGeom>
          <a:solidFill>
            <a:srgbClr val="e2a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"/>
          <p:cNvSpPr/>
          <p:nvPr/>
        </p:nvSpPr>
        <p:spPr>
          <a:xfrm rot="1281000">
            <a:off x="2988000" y="3192120"/>
            <a:ext cx="1076760" cy="520560"/>
          </a:xfrm>
          <a:prstGeom prst="rect">
            <a:avLst/>
          </a:prstGeom>
          <a:solidFill>
            <a:srgbClr val="e4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4"/>
          <p:cNvSpPr/>
          <p:nvPr/>
        </p:nvSpPr>
        <p:spPr>
          <a:xfrm rot="1302000">
            <a:off x="5151240" y="3200400"/>
            <a:ext cx="537480" cy="520560"/>
          </a:xfrm>
          <a:prstGeom prst="rect">
            <a:avLst/>
          </a:prstGeom>
          <a:solidFill>
            <a:srgbClr val="f7c9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5"/>
          <p:cNvSpPr/>
          <p:nvPr/>
        </p:nvSpPr>
        <p:spPr>
          <a:xfrm rot="20245800">
            <a:off x="6018480" y="3149640"/>
            <a:ext cx="803880" cy="52056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6"/>
          <p:cNvSpPr/>
          <p:nvPr/>
        </p:nvSpPr>
        <p:spPr>
          <a:xfrm>
            <a:off x="7267680" y="3192480"/>
            <a:ext cx="53604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组合 6" descr=""/>
          <p:cNvPicPr/>
          <p:nvPr/>
        </p:nvPicPr>
        <p:blipFill>
          <a:blip r:embed="rId2"/>
          <a:stretch/>
        </p:blipFill>
        <p:spPr>
          <a:xfrm>
            <a:off x="2766960" y="1852560"/>
            <a:ext cx="719280" cy="1225440"/>
          </a:xfrm>
          <a:prstGeom prst="rect">
            <a:avLst/>
          </a:prstGeom>
          <a:ln w="0">
            <a:noFill/>
          </a:ln>
        </p:spPr>
      </p:pic>
      <p:pic>
        <p:nvPicPr>
          <p:cNvPr id="72" name="组合 21" descr=""/>
          <p:cNvPicPr/>
          <p:nvPr/>
        </p:nvPicPr>
        <p:blipFill>
          <a:blip r:embed="rId3"/>
          <a:stretch/>
        </p:blipFill>
        <p:spPr>
          <a:xfrm>
            <a:off x="804960" y="1652760"/>
            <a:ext cx="890640" cy="1292040"/>
          </a:xfrm>
          <a:prstGeom prst="rect">
            <a:avLst/>
          </a:prstGeom>
          <a:ln w="0">
            <a:noFill/>
          </a:ln>
        </p:spPr>
      </p:pic>
      <p:pic>
        <p:nvPicPr>
          <p:cNvPr id="73" name="组合 24" descr=""/>
          <p:cNvPicPr/>
          <p:nvPr/>
        </p:nvPicPr>
        <p:blipFill>
          <a:blip r:embed="rId4"/>
          <a:stretch/>
        </p:blipFill>
        <p:spPr>
          <a:xfrm>
            <a:off x="4145040" y="2871720"/>
            <a:ext cx="896760" cy="129852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3"/>
          <p:cNvSpPr/>
          <p:nvPr/>
        </p:nvSpPr>
        <p:spPr>
          <a:xfrm>
            <a:off x="219240" y="408132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4005360" y="4106880"/>
            <a:ext cx="30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051"/>
          <p:cNvGrpSpPr/>
          <p:nvPr/>
        </p:nvGrpSpPr>
        <p:grpSpPr>
          <a:xfrm>
            <a:off x="446040" y="4425840"/>
            <a:ext cx="1400400" cy="896760"/>
            <a:chOff x="446040" y="4425840"/>
            <a:chExt cx="1400400" cy="896760"/>
          </a:xfrm>
        </p:grpSpPr>
        <p:grpSp>
          <p:nvGrpSpPr>
            <p:cNvPr id="77" name="组合 2048"/>
            <p:cNvGrpSpPr/>
            <p:nvPr/>
          </p:nvGrpSpPr>
          <p:grpSpPr>
            <a:xfrm>
              <a:off x="446040" y="4425840"/>
              <a:ext cx="362880" cy="896760"/>
              <a:chOff x="446040" y="4425840"/>
              <a:chExt cx="362880" cy="896760"/>
            </a:xfrm>
          </p:grpSpPr>
          <p:sp>
            <p:nvSpPr>
              <p:cNvPr id="78" name="文本框 3"/>
              <p:cNvSpPr/>
              <p:nvPr/>
            </p:nvSpPr>
            <p:spPr>
              <a:xfrm>
                <a:off x="446040" y="442584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文本框 3"/>
              <p:cNvSpPr/>
              <p:nvPr/>
            </p:nvSpPr>
            <p:spPr>
              <a:xfrm>
                <a:off x="446040" y="480204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2047"/>
              <p:cNvSpPr/>
              <p:nvPr/>
            </p:nvSpPr>
            <p:spPr>
              <a:xfrm>
                <a:off x="446040" y="4907160"/>
                <a:ext cx="362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组合 34"/>
            <p:cNvGrpSpPr/>
            <p:nvPr/>
          </p:nvGrpSpPr>
          <p:grpSpPr>
            <a:xfrm>
              <a:off x="964800" y="4425840"/>
              <a:ext cx="362880" cy="896760"/>
              <a:chOff x="964800" y="4425840"/>
              <a:chExt cx="362880" cy="896760"/>
            </a:xfrm>
          </p:grpSpPr>
          <p:sp>
            <p:nvSpPr>
              <p:cNvPr id="82" name="文本框 3"/>
              <p:cNvSpPr/>
              <p:nvPr/>
            </p:nvSpPr>
            <p:spPr>
              <a:xfrm>
                <a:off x="964800" y="4425840"/>
                <a:ext cx="36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文本框 3"/>
              <p:cNvSpPr/>
              <p:nvPr/>
            </p:nvSpPr>
            <p:spPr>
              <a:xfrm>
                <a:off x="964800" y="4802040"/>
                <a:ext cx="36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37"/>
              <p:cNvSpPr/>
              <p:nvPr/>
            </p:nvSpPr>
            <p:spPr>
              <a:xfrm>
                <a:off x="965160" y="4907160"/>
                <a:ext cx="36216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38"/>
            <p:cNvGrpSpPr/>
            <p:nvPr/>
          </p:nvGrpSpPr>
          <p:grpSpPr>
            <a:xfrm>
              <a:off x="1483560" y="4425840"/>
              <a:ext cx="362880" cy="896760"/>
              <a:chOff x="1483560" y="4425840"/>
              <a:chExt cx="362880" cy="896760"/>
            </a:xfrm>
          </p:grpSpPr>
          <p:sp>
            <p:nvSpPr>
              <p:cNvPr id="86" name="文本框 3"/>
              <p:cNvSpPr/>
              <p:nvPr/>
            </p:nvSpPr>
            <p:spPr>
              <a:xfrm>
                <a:off x="1484280" y="442584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文本框 3"/>
              <p:cNvSpPr/>
              <p:nvPr/>
            </p:nvSpPr>
            <p:spPr>
              <a:xfrm>
                <a:off x="1484280" y="480204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41"/>
              <p:cNvSpPr/>
              <p:nvPr/>
            </p:nvSpPr>
            <p:spPr>
              <a:xfrm>
                <a:off x="1483560" y="4907160"/>
                <a:ext cx="362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文本框 3"/>
          <p:cNvSpPr/>
          <p:nvPr/>
        </p:nvSpPr>
        <p:spPr>
          <a:xfrm>
            <a:off x="4005360" y="4498920"/>
            <a:ext cx="30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﹣1  0  2  6 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50"/>
          <p:cNvGrpSpPr/>
          <p:nvPr/>
        </p:nvGrpSpPr>
        <p:grpSpPr>
          <a:xfrm>
            <a:off x="219240" y="5208480"/>
            <a:ext cx="4371840" cy="1246320"/>
            <a:chOff x="219240" y="5208480"/>
            <a:chExt cx="4371840" cy="1246320"/>
          </a:xfrm>
        </p:grpSpPr>
        <p:sp>
          <p:nvSpPr>
            <p:cNvPr id="91" name="文本框 3"/>
            <p:cNvSpPr/>
            <p:nvPr/>
          </p:nvSpPr>
          <p:spPr>
            <a:xfrm>
              <a:off x="219240" y="5208480"/>
              <a:ext cx="437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0.35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.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5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％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2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％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.2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48"/>
            <p:cNvGrpSpPr/>
            <p:nvPr/>
          </p:nvGrpSpPr>
          <p:grpSpPr>
            <a:xfrm>
              <a:off x="1475280" y="5558040"/>
              <a:ext cx="377640" cy="896760"/>
              <a:chOff x="1475280" y="5558040"/>
              <a:chExt cx="377640" cy="896760"/>
            </a:xfrm>
          </p:grpSpPr>
          <p:sp>
            <p:nvSpPr>
              <p:cNvPr id="93" name="文本框 3"/>
              <p:cNvSpPr/>
              <p:nvPr/>
            </p:nvSpPr>
            <p:spPr>
              <a:xfrm>
                <a:off x="1475640" y="5558040"/>
                <a:ext cx="37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文本框 3"/>
              <p:cNvSpPr/>
              <p:nvPr/>
            </p:nvSpPr>
            <p:spPr>
              <a:xfrm>
                <a:off x="1475640" y="5934240"/>
                <a:ext cx="37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51"/>
              <p:cNvSpPr/>
              <p:nvPr/>
            </p:nvSpPr>
            <p:spPr>
              <a:xfrm>
                <a:off x="1475280" y="6039000"/>
                <a:ext cx="3772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52"/>
            <p:cNvGrpSpPr/>
            <p:nvPr/>
          </p:nvGrpSpPr>
          <p:grpSpPr>
            <a:xfrm>
              <a:off x="1924560" y="5558040"/>
              <a:ext cx="377640" cy="896760"/>
              <a:chOff x="1924560" y="5558040"/>
              <a:chExt cx="377640" cy="896760"/>
            </a:xfrm>
          </p:grpSpPr>
          <p:sp>
            <p:nvSpPr>
              <p:cNvPr id="97" name="文本框 3"/>
              <p:cNvSpPr/>
              <p:nvPr/>
            </p:nvSpPr>
            <p:spPr>
              <a:xfrm>
                <a:off x="1924920" y="5558040"/>
                <a:ext cx="37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3"/>
              <p:cNvSpPr/>
              <p:nvPr/>
            </p:nvSpPr>
            <p:spPr>
              <a:xfrm>
                <a:off x="1924920" y="5934240"/>
                <a:ext cx="37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55"/>
              <p:cNvSpPr/>
              <p:nvPr/>
            </p:nvSpPr>
            <p:spPr>
              <a:xfrm>
                <a:off x="1924560" y="6039000"/>
                <a:ext cx="3772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61"/>
            <p:cNvGrpSpPr/>
            <p:nvPr/>
          </p:nvGrpSpPr>
          <p:grpSpPr>
            <a:xfrm>
              <a:off x="2406240" y="5552640"/>
              <a:ext cx="377640" cy="896760"/>
              <a:chOff x="2406240" y="5552640"/>
              <a:chExt cx="377640" cy="896760"/>
            </a:xfrm>
          </p:grpSpPr>
          <p:sp>
            <p:nvSpPr>
              <p:cNvPr id="101" name="文本框 3"/>
              <p:cNvSpPr/>
              <p:nvPr/>
            </p:nvSpPr>
            <p:spPr>
              <a:xfrm>
                <a:off x="2406240" y="555264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文本框 3"/>
              <p:cNvSpPr/>
              <p:nvPr/>
            </p:nvSpPr>
            <p:spPr>
              <a:xfrm>
                <a:off x="2406240" y="592884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64"/>
              <p:cNvSpPr/>
              <p:nvPr/>
            </p:nvSpPr>
            <p:spPr>
              <a:xfrm>
                <a:off x="2406600" y="6033960"/>
                <a:ext cx="3762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文本框 3"/>
          <p:cNvSpPr/>
          <p:nvPr/>
        </p:nvSpPr>
        <p:spPr>
          <a:xfrm>
            <a:off x="6299280" y="5416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7505640" y="1009800"/>
            <a:ext cx="811440" cy="1253880"/>
          </a:xfrm>
          <a:prstGeom prst="rect">
            <a:avLst/>
          </a:prstGeom>
          <a:ln w="0">
            <a:noFill/>
          </a:ln>
        </p:spPr>
      </p:pic>
      <p:sp>
        <p:nvSpPr>
          <p:cNvPr id="106" name="圆角矩形标注 2"/>
          <p:cNvSpPr/>
          <p:nvPr/>
        </p:nvSpPr>
        <p:spPr>
          <a:xfrm>
            <a:off x="1714680" y="1009800"/>
            <a:ext cx="5360760" cy="691920"/>
          </a:xfrm>
          <a:prstGeom prst="wedgeRoundRectCallout">
            <a:avLst>
              <a:gd name="adj1" fmla="val 55425"/>
              <a:gd name="adj2" fmla="val -203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还知道哪些和数有关的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246240" y="2138400"/>
            <a:ext cx="87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选择上面的数，说一说分数、小数、百分数是怎样互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46240" y="3527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小数化成百分数，只要把小数点向右移动两位，同时在后面添上百分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百分数化成小数，只要把百分号去掉，同时把小数点向左移动两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3"/>
          <p:cNvSpPr/>
          <p:nvPr/>
        </p:nvSpPr>
        <p:spPr>
          <a:xfrm>
            <a:off x="195120" y="4146480"/>
            <a:ext cx="873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上面的数按从大到小的顺序排列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311040" y="4792680"/>
            <a:ext cx="8147160" cy="922320"/>
            <a:chOff x="311040" y="4792680"/>
            <a:chExt cx="8147160" cy="922320"/>
          </a:xfrm>
        </p:grpSpPr>
        <p:grpSp>
          <p:nvGrpSpPr>
            <p:cNvPr id="111" name="组合 59"/>
            <p:cNvGrpSpPr/>
            <p:nvPr/>
          </p:nvGrpSpPr>
          <p:grpSpPr>
            <a:xfrm>
              <a:off x="2615040" y="4792680"/>
              <a:ext cx="362520" cy="896760"/>
              <a:chOff x="2615040" y="4792680"/>
              <a:chExt cx="362520" cy="896760"/>
            </a:xfrm>
          </p:grpSpPr>
          <p:sp>
            <p:nvSpPr>
              <p:cNvPr id="112" name="文本框 3"/>
              <p:cNvSpPr/>
              <p:nvPr/>
            </p:nvSpPr>
            <p:spPr>
              <a:xfrm>
                <a:off x="2615400" y="4792680"/>
                <a:ext cx="36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文本框 3"/>
              <p:cNvSpPr/>
              <p:nvPr/>
            </p:nvSpPr>
            <p:spPr>
              <a:xfrm>
                <a:off x="2615400" y="5168880"/>
                <a:ext cx="36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17"/>
              <p:cNvSpPr/>
              <p:nvPr/>
            </p:nvSpPr>
            <p:spPr>
              <a:xfrm>
                <a:off x="2615040" y="5274000"/>
                <a:ext cx="362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文本框 3"/>
            <p:cNvSpPr/>
            <p:nvPr/>
          </p:nvSpPr>
          <p:spPr>
            <a:xfrm>
              <a:off x="311040" y="4980600"/>
              <a:ext cx="814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 1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％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3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％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﹣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组合 67"/>
            <p:cNvGrpSpPr/>
            <p:nvPr/>
          </p:nvGrpSpPr>
          <p:grpSpPr>
            <a:xfrm>
              <a:off x="4010400" y="4818240"/>
              <a:ext cx="362520" cy="896760"/>
              <a:chOff x="4010400" y="4818240"/>
              <a:chExt cx="362520" cy="896760"/>
            </a:xfrm>
          </p:grpSpPr>
          <p:sp>
            <p:nvSpPr>
              <p:cNvPr id="117" name="文本框 3"/>
              <p:cNvSpPr/>
              <p:nvPr/>
            </p:nvSpPr>
            <p:spPr>
              <a:xfrm>
                <a:off x="4010760" y="4818240"/>
                <a:ext cx="36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文本框 3"/>
              <p:cNvSpPr/>
              <p:nvPr/>
            </p:nvSpPr>
            <p:spPr>
              <a:xfrm>
                <a:off x="4010760" y="5194440"/>
                <a:ext cx="36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14"/>
              <p:cNvSpPr/>
              <p:nvPr/>
            </p:nvSpPr>
            <p:spPr>
              <a:xfrm>
                <a:off x="4010400" y="5298840"/>
                <a:ext cx="362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71"/>
            <p:cNvGrpSpPr/>
            <p:nvPr/>
          </p:nvGrpSpPr>
          <p:grpSpPr>
            <a:xfrm>
              <a:off x="4489200" y="4818240"/>
              <a:ext cx="362520" cy="896760"/>
              <a:chOff x="4489200" y="4818240"/>
              <a:chExt cx="362520" cy="896760"/>
            </a:xfrm>
          </p:grpSpPr>
          <p:sp>
            <p:nvSpPr>
              <p:cNvPr id="121" name="文本框 3"/>
              <p:cNvSpPr/>
              <p:nvPr/>
            </p:nvSpPr>
            <p:spPr>
              <a:xfrm>
                <a:off x="4489200" y="4818240"/>
                <a:ext cx="36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文本框 3"/>
              <p:cNvSpPr/>
              <p:nvPr/>
            </p:nvSpPr>
            <p:spPr>
              <a:xfrm>
                <a:off x="4489200" y="5194440"/>
                <a:ext cx="36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11"/>
              <p:cNvSpPr/>
              <p:nvPr/>
            </p:nvSpPr>
            <p:spPr>
              <a:xfrm>
                <a:off x="4489200" y="5298840"/>
                <a:ext cx="361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文本框 18"/>
          <p:cNvSpPr/>
          <p:nvPr/>
        </p:nvSpPr>
        <p:spPr>
          <a:xfrm>
            <a:off x="195120" y="866880"/>
            <a:ext cx="878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分数化成百分数，通常先把分数化成小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不尽时，通常保留三位小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把小数化成百分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百分数化成分数，先把百分数改写成分数，能约分的要约成最简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3"/>
          <p:cNvSpPr/>
          <p:nvPr/>
        </p:nvSpPr>
        <p:spPr>
          <a:xfrm>
            <a:off x="515880" y="782640"/>
            <a:ext cx="55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图里填上合适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2061"/>
          <p:cNvGrpSpPr/>
          <p:nvPr/>
        </p:nvGrpSpPr>
        <p:grpSpPr>
          <a:xfrm>
            <a:off x="1512720" y="1608120"/>
            <a:ext cx="5585040" cy="4441680"/>
            <a:chOff x="1512720" y="1608120"/>
            <a:chExt cx="5585040" cy="4441680"/>
          </a:xfrm>
        </p:grpSpPr>
        <p:grpSp>
          <p:nvGrpSpPr>
            <p:cNvPr id="127" name="组合 20"/>
            <p:cNvGrpSpPr/>
            <p:nvPr/>
          </p:nvGrpSpPr>
          <p:grpSpPr>
            <a:xfrm>
              <a:off x="1662120" y="1834920"/>
              <a:ext cx="5435640" cy="2171520"/>
              <a:chOff x="1662120" y="1834920"/>
              <a:chExt cx="5435640" cy="2171520"/>
            </a:xfrm>
          </p:grpSpPr>
          <p:sp>
            <p:nvSpPr>
              <p:cNvPr id="128" name="弧形 3"/>
              <p:cNvSpPr/>
              <p:nvPr/>
            </p:nvSpPr>
            <p:spPr>
              <a:xfrm>
                <a:off x="1662120" y="2147400"/>
                <a:ext cx="3500640" cy="1859040"/>
              </a:xfrm>
              <a:custGeom>
                <a:avLst/>
                <a:gdLst/>
                <a:ahLst/>
                <a:rect l="l" t="t" r="r" b="b"/>
                <a:pathLst>
                  <a:path stroke="0" w="3501095" h="1858978">
                    <a:moveTo>
                      <a:pt x="2382752" y="62732"/>
                    </a:moveTo>
                    <a:cubicBezTo>
                      <a:pt x="3363879" y="264488"/>
                      <a:pt x="3790551" y="876928"/>
                      <a:pt x="3292890" y="1369137"/>
                    </a:cubicBezTo>
                    <a:cubicBezTo>
                      <a:pt x="2999692" y="1659123"/>
                      <a:pt x="2439532" y="1845156"/>
                      <a:pt x="1820153" y="1858243"/>
                    </a:cubicBezTo>
                    <a:cubicBezTo>
                      <a:pt x="1285332" y="1869543"/>
                      <a:pt x="770163" y="1750307"/>
                      <a:pt x="421726" y="1534574"/>
                    </a:cubicBezTo>
                    <a:cubicBezTo>
                      <a:pt x="-310468" y="1081242"/>
                      <a:pt x="-59052" y="384159"/>
                      <a:pt x="936774" y="106537"/>
                    </a:cubicBezTo>
                    <a:lnTo>
                      <a:pt x="1750548" y="929489"/>
                    </a:lnTo>
                    <a:lnTo>
                      <a:pt x="2382752" y="62732"/>
                    </a:lnTo>
                    <a:close/>
                  </a:path>
                  <a:path fill="none" w="3501095" h="1858978">
                    <a:moveTo>
                      <a:pt x="2382752" y="62732"/>
                    </a:moveTo>
                    <a:cubicBezTo>
                      <a:pt x="3363879" y="264488"/>
                      <a:pt x="3790551" y="876928"/>
                      <a:pt x="3292890" y="1369137"/>
                    </a:cubicBezTo>
                    <a:cubicBezTo>
                      <a:pt x="2999692" y="1659123"/>
                      <a:pt x="2439532" y="1845156"/>
                      <a:pt x="1820153" y="1858243"/>
                    </a:cubicBezTo>
                    <a:cubicBezTo>
                      <a:pt x="1285332" y="1869543"/>
                      <a:pt x="770163" y="1750307"/>
                      <a:pt x="421726" y="1534574"/>
                    </a:cubicBezTo>
                    <a:cubicBezTo>
                      <a:pt x="-310468" y="1081242"/>
                      <a:pt x="-59052" y="384159"/>
                      <a:pt x="936774" y="106537"/>
                    </a:cubicBezTo>
                  </a:path>
                </a:pathLst>
              </a:custGeom>
              <a:noFill/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弧形 57"/>
              <p:cNvSpPr/>
              <p:nvPr/>
            </p:nvSpPr>
            <p:spPr>
              <a:xfrm>
                <a:off x="3597120" y="2138040"/>
                <a:ext cx="3500640" cy="1859040"/>
              </a:xfrm>
              <a:custGeom>
                <a:avLst/>
                <a:gdLst/>
                <a:ahLst/>
                <a:rect l="l" t="t" r="r" b="b"/>
                <a:pathLst>
                  <a:path stroke="0" w="3501096" h="1858978">
                    <a:moveTo>
                      <a:pt x="2691150" y="145577"/>
                    </a:moveTo>
                    <a:cubicBezTo>
                      <a:pt x="3852847" y="538559"/>
                      <a:pt x="3744178" y="1457043"/>
                      <a:pt x="2498989" y="1769740"/>
                    </a:cubicBezTo>
                    <a:cubicBezTo>
                      <a:pt x="1987804" y="1898111"/>
                      <a:pt x="1391317" y="1887464"/>
                      <a:pt x="897522" y="1741155"/>
                    </a:cubicBezTo>
                    <a:cubicBezTo>
                      <a:pt x="-308906" y="1383696"/>
                      <a:pt x="-296577" y="459829"/>
                      <a:pt x="919270" y="111484"/>
                    </a:cubicBezTo>
                    <a:lnTo>
                      <a:pt x="1750548" y="929489"/>
                    </a:lnTo>
                    <a:lnTo>
                      <a:pt x="2691150" y="145577"/>
                    </a:lnTo>
                    <a:close/>
                  </a:path>
                  <a:path fill="none" w="3501096" h="1858978">
                    <a:moveTo>
                      <a:pt x="2691150" y="145577"/>
                    </a:moveTo>
                    <a:cubicBezTo>
                      <a:pt x="3852847" y="538559"/>
                      <a:pt x="3744178" y="1457043"/>
                      <a:pt x="2498989" y="1769740"/>
                    </a:cubicBezTo>
                    <a:cubicBezTo>
                      <a:pt x="1987804" y="1898111"/>
                      <a:pt x="1391317" y="1887464"/>
                      <a:pt x="897522" y="1741155"/>
                    </a:cubicBezTo>
                    <a:cubicBezTo>
                      <a:pt x="-308906" y="1383696"/>
                      <a:pt x="-296577" y="459829"/>
                      <a:pt x="919270" y="111484"/>
                    </a:cubicBezTo>
                  </a:path>
                </a:pathLst>
              </a:custGeom>
              <a:noFill/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文本框 18"/>
              <p:cNvSpPr/>
              <p:nvPr/>
            </p:nvSpPr>
            <p:spPr>
              <a:xfrm>
                <a:off x="2696040" y="1834920"/>
                <a:ext cx="14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的因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文本框 62"/>
              <p:cNvSpPr/>
              <p:nvPr/>
            </p:nvSpPr>
            <p:spPr>
              <a:xfrm>
                <a:off x="4528800" y="1845000"/>
                <a:ext cx="163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的因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2" name="直接箭头连接符 2056"/>
            <p:cNvCxnSpPr/>
            <p:nvPr/>
          </p:nvCxnSpPr>
          <p:spPr>
            <a:xfrm flipH="1" flipV="1">
              <a:off x="4380840" y="3952080"/>
              <a:ext cx="5400" cy="3020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3" name="文本框 72"/>
            <p:cNvSpPr/>
            <p:nvPr/>
          </p:nvSpPr>
          <p:spPr>
            <a:xfrm>
              <a:off x="3046320" y="4262400"/>
              <a:ext cx="267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公因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2058"/>
            <p:cNvSpPr/>
            <p:nvPr/>
          </p:nvSpPr>
          <p:spPr>
            <a:xfrm>
              <a:off x="1512720" y="1608120"/>
              <a:ext cx="121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74"/>
            <p:cNvSpPr/>
            <p:nvPr/>
          </p:nvSpPr>
          <p:spPr>
            <a:xfrm>
              <a:off x="2518920" y="4980960"/>
              <a:ext cx="3724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最大公因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76"/>
          <p:cNvSpPr/>
          <p:nvPr/>
        </p:nvSpPr>
        <p:spPr>
          <a:xfrm>
            <a:off x="2351160" y="2462040"/>
            <a:ext cx="14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9"/>
          <p:cNvSpPr/>
          <p:nvPr/>
        </p:nvSpPr>
        <p:spPr>
          <a:xfrm>
            <a:off x="5099040" y="27748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80"/>
          <p:cNvSpPr/>
          <p:nvPr/>
        </p:nvSpPr>
        <p:spPr>
          <a:xfrm>
            <a:off x="4003560" y="54738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2"/>
          <p:cNvSpPr/>
          <p:nvPr/>
        </p:nvSpPr>
        <p:spPr>
          <a:xfrm>
            <a:off x="3852720" y="2513160"/>
            <a:ext cx="14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"/>
          <p:cNvGrpSpPr/>
          <p:nvPr/>
        </p:nvGrpSpPr>
        <p:grpSpPr>
          <a:xfrm>
            <a:off x="1347120" y="814320"/>
            <a:ext cx="5728320" cy="4960440"/>
            <a:chOff x="1347120" y="814320"/>
            <a:chExt cx="5728320" cy="4960440"/>
          </a:xfrm>
        </p:grpSpPr>
        <p:grpSp>
          <p:nvGrpSpPr>
            <p:cNvPr id="141" name="组合 19"/>
            <p:cNvGrpSpPr/>
            <p:nvPr/>
          </p:nvGrpSpPr>
          <p:grpSpPr>
            <a:xfrm>
              <a:off x="1347120" y="814320"/>
              <a:ext cx="4874760" cy="4960440"/>
              <a:chOff x="1347120" y="814320"/>
              <a:chExt cx="4874760" cy="4960440"/>
            </a:xfrm>
          </p:grpSpPr>
          <p:grpSp>
            <p:nvGrpSpPr>
              <p:cNvPr id="142" name="组合 20"/>
              <p:cNvGrpSpPr/>
              <p:nvPr/>
            </p:nvGrpSpPr>
            <p:grpSpPr>
              <a:xfrm>
                <a:off x="2648160" y="1662480"/>
                <a:ext cx="3437280" cy="625680"/>
                <a:chOff x="2648160" y="1662480"/>
                <a:chExt cx="3437280" cy="625680"/>
              </a:xfrm>
            </p:grpSpPr>
            <p:sp>
              <p:nvSpPr>
                <p:cNvPr id="143" name="文本框 27"/>
                <p:cNvSpPr/>
                <p:nvPr/>
              </p:nvSpPr>
              <p:spPr>
                <a:xfrm>
                  <a:off x="2648160" y="1662480"/>
                  <a:ext cx="14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的倍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文本框 28"/>
                <p:cNvSpPr/>
                <p:nvPr/>
              </p:nvSpPr>
              <p:spPr>
                <a:xfrm>
                  <a:off x="4652280" y="1706760"/>
                  <a:ext cx="14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的倍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45" name="直接箭头连接符 21"/>
              <p:cNvCxnSpPr/>
              <p:nvPr/>
            </p:nvCxnSpPr>
            <p:spPr>
              <a:xfrm flipH="1" flipV="1">
                <a:off x="4358520" y="3677760"/>
                <a:ext cx="5400" cy="302040"/>
              </a:xfrm>
              <a:prstGeom prst="straightConnector1">
                <a:avLst/>
              </a:prstGeom>
              <a:ln w="648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46" name="文本框 22"/>
              <p:cNvSpPr/>
              <p:nvPr/>
            </p:nvSpPr>
            <p:spPr>
              <a:xfrm>
                <a:off x="3126600" y="3986280"/>
                <a:ext cx="246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和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的公倍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文本框 23"/>
              <p:cNvSpPr/>
              <p:nvPr/>
            </p:nvSpPr>
            <p:spPr>
              <a:xfrm>
                <a:off x="1347120" y="814320"/>
                <a:ext cx="403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）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以内的自然数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文本框 24"/>
              <p:cNvSpPr/>
              <p:nvPr/>
            </p:nvSpPr>
            <p:spPr>
              <a:xfrm>
                <a:off x="2496960" y="4705920"/>
                <a:ext cx="37249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和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的最小公倍数是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___________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弧形 32"/>
            <p:cNvSpPr/>
            <p:nvPr/>
          </p:nvSpPr>
          <p:spPr>
            <a:xfrm>
              <a:off x="1639800" y="1969920"/>
              <a:ext cx="3500280" cy="1859040"/>
            </a:xfrm>
            <a:custGeom>
              <a:avLst/>
              <a:gdLst/>
              <a:ahLst/>
              <a:rect l="l" t="t" r="r" b="b"/>
              <a:pathLst>
                <a:path stroke="0" w="3501000" h="1858703">
                  <a:moveTo>
                    <a:pt x="2525398" y="96017"/>
                  </a:moveTo>
                  <a:cubicBezTo>
                    <a:pt x="3497110" y="350699"/>
                    <a:pt x="3803924" y="1008182"/>
                    <a:pt x="3168549" y="1474246"/>
                  </a:cubicBezTo>
                  <a:cubicBezTo>
                    <a:pt x="2842303" y="1713556"/>
                    <a:pt x="2321187" y="1856264"/>
                    <a:pt x="1764772" y="1858673"/>
                  </a:cubicBezTo>
                  <a:cubicBezTo>
                    <a:pt x="1224614" y="1861011"/>
                    <a:pt x="712678" y="1730821"/>
                    <a:pt x="377568" y="1505895"/>
                  </a:cubicBezTo>
                  <a:cubicBezTo>
                    <a:pt x="-302584" y="1049376"/>
                    <a:pt x="-33897" y="377059"/>
                    <a:pt x="936825" y="106501"/>
                  </a:cubicBezTo>
                  <a:lnTo>
                    <a:pt x="1750500" y="929352"/>
                  </a:lnTo>
                  <a:lnTo>
                    <a:pt x="2525398" y="96017"/>
                  </a:lnTo>
                  <a:close/>
                </a:path>
                <a:path fill="none" w="3501000" h="1858703">
                  <a:moveTo>
                    <a:pt x="2525398" y="96017"/>
                  </a:moveTo>
                  <a:cubicBezTo>
                    <a:pt x="3497110" y="350699"/>
                    <a:pt x="3803924" y="1008182"/>
                    <a:pt x="3168549" y="1474246"/>
                  </a:cubicBezTo>
                  <a:cubicBezTo>
                    <a:pt x="2842303" y="1713556"/>
                    <a:pt x="2321187" y="1856264"/>
                    <a:pt x="1764772" y="1858673"/>
                  </a:cubicBezTo>
                  <a:cubicBezTo>
                    <a:pt x="1224614" y="1861011"/>
                    <a:pt x="712678" y="1730821"/>
                    <a:pt x="377568" y="1505895"/>
                  </a:cubicBezTo>
                  <a:cubicBezTo>
                    <a:pt x="-302584" y="1049376"/>
                    <a:pt x="-33897" y="377059"/>
                    <a:pt x="936825" y="106501"/>
                  </a:cubicBezTo>
                </a:path>
              </a:pathLst>
            </a:cu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弧形 33"/>
            <p:cNvSpPr/>
            <p:nvPr/>
          </p:nvSpPr>
          <p:spPr>
            <a:xfrm>
              <a:off x="3575160" y="1960560"/>
              <a:ext cx="3500280" cy="1859040"/>
            </a:xfrm>
            <a:custGeom>
              <a:avLst/>
              <a:gdLst/>
              <a:ahLst/>
              <a:rect l="l" t="t" r="r" b="b"/>
              <a:pathLst>
                <a:path stroke="0" w="3501001" h="1858703">
                  <a:moveTo>
                    <a:pt x="2690997" y="145528"/>
                  </a:moveTo>
                  <a:cubicBezTo>
                    <a:pt x="3852770" y="538441"/>
                    <a:pt x="3744103" y="1456859"/>
                    <a:pt x="2498848" y="1769498"/>
                  </a:cubicBezTo>
                  <a:cubicBezTo>
                    <a:pt x="1987720" y="1897824"/>
                    <a:pt x="1391319" y="1887180"/>
                    <a:pt x="897577" y="1740922"/>
                  </a:cubicBezTo>
                  <a:cubicBezTo>
                    <a:pt x="-308923" y="1383528"/>
                    <a:pt x="-296594" y="459727"/>
                    <a:pt x="919324" y="111446"/>
                  </a:cubicBezTo>
                  <a:lnTo>
                    <a:pt x="1750501" y="929352"/>
                  </a:lnTo>
                  <a:lnTo>
                    <a:pt x="2690997" y="145528"/>
                  </a:lnTo>
                  <a:close/>
                </a:path>
                <a:path fill="none" w="3501001" h="1858703">
                  <a:moveTo>
                    <a:pt x="2690997" y="145528"/>
                  </a:moveTo>
                  <a:cubicBezTo>
                    <a:pt x="3852770" y="538441"/>
                    <a:pt x="3744103" y="1456859"/>
                    <a:pt x="2498848" y="1769498"/>
                  </a:cubicBezTo>
                  <a:cubicBezTo>
                    <a:pt x="1987720" y="1897824"/>
                    <a:pt x="1391319" y="1887180"/>
                    <a:pt x="897577" y="1740922"/>
                  </a:cubicBezTo>
                  <a:cubicBezTo>
                    <a:pt x="-308923" y="1383528"/>
                    <a:pt x="-296594" y="459727"/>
                    <a:pt x="919324" y="111446"/>
                  </a:cubicBezTo>
                </a:path>
              </a:pathLst>
            </a:cu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35"/>
          <p:cNvSpPr/>
          <p:nvPr/>
        </p:nvSpPr>
        <p:spPr>
          <a:xfrm>
            <a:off x="1797120" y="2608200"/>
            <a:ext cx="18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6"/>
          <p:cNvSpPr/>
          <p:nvPr/>
        </p:nvSpPr>
        <p:spPr>
          <a:xfrm>
            <a:off x="3714840" y="2351160"/>
            <a:ext cx="186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7"/>
          <p:cNvSpPr/>
          <p:nvPr/>
        </p:nvSpPr>
        <p:spPr>
          <a:xfrm>
            <a:off x="5079960" y="2608200"/>
            <a:ext cx="22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843360" y="51656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3"/>
          <p:cNvSpPr/>
          <p:nvPr/>
        </p:nvSpPr>
        <p:spPr>
          <a:xfrm>
            <a:off x="452520" y="414360"/>
            <a:ext cx="86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亮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的收支情况记录如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折角形 2"/>
          <p:cNvGrpSpPr/>
          <p:nvPr/>
        </p:nvGrpSpPr>
        <p:grpSpPr>
          <a:xfrm>
            <a:off x="628560" y="1243080"/>
            <a:ext cx="5888160" cy="5151240"/>
            <a:chOff x="628560" y="1243080"/>
            <a:chExt cx="5888160" cy="5151240"/>
          </a:xfrm>
        </p:grpSpPr>
        <p:pic>
          <p:nvPicPr>
            <p:cNvPr id="157" name="折角形 2" descr=""/>
            <p:cNvPicPr/>
            <p:nvPr/>
          </p:nvPicPr>
          <p:blipFill>
            <a:blip r:embed="rId1"/>
            <a:stretch/>
          </p:blipFill>
          <p:spPr>
            <a:xfrm>
              <a:off x="628560" y="1243080"/>
              <a:ext cx="588816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31800" y="1246320"/>
              <a:ext cx="5859360" cy="44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爸爸领工资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交水电费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妈妈领工资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给亮亮买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妈妈买衣服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给亮亮买旅游鞋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爸爸领奖金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交物业管理费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  妈妈领奖金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日 本月伙食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3"/>
          <p:cNvSpPr/>
          <p:nvPr/>
        </p:nvSpPr>
        <p:spPr>
          <a:xfrm>
            <a:off x="689040" y="1216080"/>
            <a:ext cx="75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估算一下亮亮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大约收入多少元，支出多少元，结余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689040" y="5199120"/>
            <a:ext cx="84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亮亮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的收支情况填在下表中，并试着计算出结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6"/>
          <p:cNvSpPr/>
          <p:nvPr/>
        </p:nvSpPr>
        <p:spPr>
          <a:xfrm>
            <a:off x="1035000" y="2170080"/>
            <a:ext cx="59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收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"/>
          <p:cNvSpPr/>
          <p:nvPr/>
        </p:nvSpPr>
        <p:spPr>
          <a:xfrm>
            <a:off x="928800" y="3179880"/>
            <a:ext cx="599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支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"/>
          <p:cNvSpPr/>
          <p:nvPr/>
        </p:nvSpPr>
        <p:spPr>
          <a:xfrm>
            <a:off x="1041480" y="4537080"/>
            <a:ext cx="50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余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00-2620=26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